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FDF-DCC9-4ACF-AB67-BDDE30DB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3D43-1A69-4CA8-BCF7-2DB2E628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478E-3772-423D-9F01-6A2D87F0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86F-E476-4272-BA35-F6F58B2E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C783-E177-44DB-AAD3-0D1F1618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C976-8D6D-44C6-98AE-3FCE47EC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AF5-F4B9-4783-A7F8-E4A55087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E3A-0432-4A5E-BF8D-8B1A1E8C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187-6AB6-40D5-BC44-A3605B6A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093-2819-487F-8C93-6B02A639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C19-4D53-436F-AC88-7949AA2D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1DF5-783C-476B-BBE2-8D3FBE4F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1B6C-68E3-4DEE-9B70-4B1E182D24D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efenPowerpoint 1: DIE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Maak een Powerpoint van </a:t>
            </a:r>
            <a:r>
              <a:rPr b="1" lang="nl-NL" sz="1500" spc="-1" strike="noStrike">
                <a:solidFill>
                  <a:srgbClr val="000000"/>
                </a:solidFill>
                <a:latin typeface="Calibri"/>
              </a:rPr>
              <a:t>maximaal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4 DIA’S over jouw huisdier of jouw favoriete dier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En verd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Zet in de 1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dia jouw naam + titel opgemaakt in WordArt, gebruik de dia-indeling  “Titeldia”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Zet in de 2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dia met dia-indeling “Vergelijking” een zelf verzonnen opsomming met opsommingstekens. Verander de opsommingstekens in “smileys” of iets anders leuks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Alle tekst in 2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dia zetten op CENTREREN. En geef de tekst andere kleurtjes en lettertype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oe in de 3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dia een plaatje invoegen van www.huiswerktypen.nl middels link “Downloaden afbeeldingen”. </a:t>
            </a:r>
            <a:r>
              <a:rPr b="0" i="1" lang="nl-NL" sz="1500" spc="-1" strike="noStrike">
                <a:solidFill>
                  <a:srgbClr val="000000"/>
                </a:solidFill>
                <a:latin typeface="Calibri"/>
              </a:rPr>
              <a:t>Je mag GEEN eigen foto’s of plaatjes van internet gebruiken! </a:t>
            </a:r>
            <a:r>
              <a:rPr b="0" lang="nl-NL" sz="1500" spc="-1" strike="noStrike" u="sng">
                <a:solidFill>
                  <a:srgbClr val="000000"/>
                </a:solidFill>
                <a:uFillTx/>
                <a:latin typeface="Calibri"/>
              </a:rPr>
              <a:t>Vul dia verder op!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Kop-/Voettekst invoegen en zet daarin: Datum &amp; Tijd + Dia-nummer + Voettekst. </a:t>
            </a: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(3 onderdelen aanzetten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Zet in de 4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dia een tabel  van 5 rijen en 3 kolommen, met een achtergrondkleur in de 1</a:t>
            </a:r>
            <a:r>
              <a:rPr b="0" lang="nl-NL" sz="1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rij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IA-ONTWERP &gt; Kies zelf een ontwerp. Geef deze achtergrond andere kleur via de optie “Kleuren”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ANIMATIES &gt; Geef alle dia’s een andere animatie (dus: tekstjes of plaatjes laten bewegen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IA-OVERGANG &gt; Zet tussen alle dia’s de optie overgangen aan.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Zet de optie “NA” op 3 seconden en vergeet niet  de knop OP ALLES TOEPASSEN te drukke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Calibri"/>
              </a:rPr>
              <a:t>Je mag de Powerpoint verder helemaal leuk maken zoals JIJ wilt. HOU MAX. 4 DIA’S. !WEES CREATIEF!</a:t>
            </a:r>
            <a:br>
              <a:rPr sz="1500"/>
            </a:br>
            <a:r>
              <a:rPr b="1" lang="nl-NL" sz="15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Gebruik geen andere plaatjes dan die van “Downloaden afbeeldingen” van de website zelf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0:17:34Z</dcterms:created>
  <dc:creator>John</dc:creator>
  <dc:description/>
  <dc:language>en-US</dc:language>
  <cp:lastModifiedBy>John</cp:lastModifiedBy>
  <dcterms:modified xsi:type="dcterms:W3CDTF">2015-03-03T18:09:52Z</dcterms:modified>
  <cp:revision>55</cp:revision>
  <dc:subject/>
  <dc:title>PowerPoint-presentatie</dc:title>
</cp:coreProperties>
</file>