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F42-225B-4DC8-A7EA-20ABCE72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54F-9755-4075-B3D7-3C663D1F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466-ADD7-4916-8EE2-33091013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931-6EC6-4CC8-9796-08FBA173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FC0-D9B2-4AE6-87A0-FA8FB63C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26B-F602-462E-993B-5BA2CE2E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433-D273-4565-8E30-575A985F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342-1E83-45ED-BCE8-50C274E3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943C-4CCD-4DE0-A345-C17FBF08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ED2-9709-4592-AB18-AA5BEEC5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515-278D-4672-AB26-A2B616C6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B76-5887-4CDD-B9AB-7F8370C3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B460-ADB3-45BF-921D-AD0A947AF97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roefexamen Power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Kijk goed naar de voorbeeld-plaatjes.</a:t>
            </a:r>
            <a:br>
              <a:rPr sz="3200"/>
            </a:b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Kies bij elke dia de 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goeie</a:t>
            </a: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 dia-indeling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10:06:42Z</dcterms:created>
  <dc:creator>John</dc:creator>
  <dc:description/>
  <dc:language>en-US</dc:language>
  <cp:lastModifiedBy>John</cp:lastModifiedBy>
  <dcterms:modified xsi:type="dcterms:W3CDTF">2015-01-22T10:12:11Z</dcterms:modified>
  <cp:revision>2</cp:revision>
  <dc:subject/>
  <dc:title>Proefexamen Powerpoint</dc:title>
</cp:coreProperties>
</file>