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757F-E5A6-457D-91F2-74BB5FBA2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0920-A836-476C-A950-ED0984F6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68D6-F34B-4C70-A026-D5E582AD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8428-A31D-4D90-AAE8-DE8049A1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58E5-A865-4E41-B030-13FCE69E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0E38-582E-49AC-8969-F4ED0CBF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1E06-CE9A-4CBB-99D2-7E59F89D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7A4F-FF0A-4AF3-9D10-9FC4D4CC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9C46-89A9-4354-9F39-1BD3260D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D513-B1EB-42BF-89EF-A150C71A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AC23-9370-40BC-BE90-76342A35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D8BB-0691-464C-9D71-C7215415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5A1C-A893-469E-9814-F203C9CA51B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efenPowerpoint 2: S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Maak een Powerpoint van </a:t>
            </a:r>
            <a:r>
              <a:rPr b="1" lang="nl-NL" sz="1500" spc="-1" strike="noStrike">
                <a:solidFill>
                  <a:srgbClr val="000000"/>
                </a:solidFill>
                <a:latin typeface="Calibri"/>
              </a:rPr>
              <a:t>maximaal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4 DIA’S over een sport die je zelf beoefent of graag naar kijkt of een sporter die je bewondert. En verde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Zet in de 1</a:t>
            </a:r>
            <a:r>
              <a:rPr b="0" lang="nl-NL" sz="1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dia jouw naam + titel opgemaakt in WordArt, gebruik de dia-indeling  “Titeldia”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Zet in de 2</a:t>
            </a:r>
            <a:r>
              <a:rPr b="0" lang="nl-NL" sz="1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dia met dia-indeling “Vergelijking” een zelf verzonnen opsomming met opsommingstekens. Verander de opsommingstekens in “smileys” of iets anders leuks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Alle tekst in 2</a:t>
            </a:r>
            <a:r>
              <a:rPr b="0" lang="nl-NL" sz="1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dia zetten op CENTREREN. En geef de tekst andere kleurtjes en lettertype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Doe in de 3</a:t>
            </a:r>
            <a:r>
              <a:rPr b="0" lang="nl-NL" sz="1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dia een plaatje invoegen van www.huiswerktypen.nl middels link “Downloaden afbeeldingen”. </a:t>
            </a:r>
            <a:r>
              <a:rPr b="0" i="1" lang="nl-NL" sz="1500" spc="-1" strike="noStrike">
                <a:solidFill>
                  <a:srgbClr val="000000"/>
                </a:solidFill>
                <a:latin typeface="Calibri"/>
              </a:rPr>
              <a:t>Je mag GEEN eigen foto’s of plaatjes van internet gebruiken! </a:t>
            </a:r>
            <a:r>
              <a:rPr b="0" lang="nl-NL" sz="1500" spc="-1" strike="noStrike" u="sng">
                <a:solidFill>
                  <a:srgbClr val="000000"/>
                </a:solidFill>
                <a:uFillTx/>
                <a:latin typeface="Calibri"/>
              </a:rPr>
              <a:t>Vul dia verder op!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Kop-/Voettekst invoegen en zet daarin: Datum &amp; Tijd + Dia-nummer + Voettekst. </a:t>
            </a: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(3 onderdelen aanzetten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Zet in de 4</a:t>
            </a:r>
            <a:r>
              <a:rPr b="0" lang="nl-NL" sz="1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dia een tabel  van 5 rijen en 3 kolommen, met een achtergrondkleur in de 1</a:t>
            </a:r>
            <a:r>
              <a:rPr b="0" lang="nl-NL" sz="1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rij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DIA-ONTWERP &gt; Kies zelf een ontwerp. Geef deze achtergrond andere kleur via de optie “Kleuren”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ANIMATIES &gt; Geef alle dia’s een andere animatie (dus: tekstjes of plaatjes laten bewegen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DIA-OVERGANG &gt; Zet tussen alle dia’s de optie overgangen aan.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Zet de optie “NA” op 3 seconden en vergeet niet  de knop OP ALLES TOEPASSEN te drukken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000000"/>
                </a:solidFill>
                <a:latin typeface="Calibri"/>
              </a:rPr>
              <a:t>Je mag de Powerpoint verder helemaal leuk maken zoals JIJ wilt. HOU MAX. 4 DIA’S. !WEES CREATIEF!</a:t>
            </a:r>
            <a:br>
              <a:rPr sz="1500"/>
            </a:br>
            <a:r>
              <a:rPr b="1" lang="nl-NL" sz="15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Gebruik geen andere plaatjes dan die van “Downloaden afbeeldingen” van de website zelf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0:17:34Z</dcterms:created>
  <dc:creator>John</dc:creator>
  <dc:description/>
  <dc:language>en-US</dc:language>
  <cp:lastModifiedBy>John</cp:lastModifiedBy>
  <dcterms:modified xsi:type="dcterms:W3CDTF">2015-03-03T18:10:18Z</dcterms:modified>
  <cp:revision>53</cp:revision>
  <dc:subject/>
  <dc:title>PowerPoint-presentatie</dc:title>
</cp:coreProperties>
</file>