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459-D850-4C40-A913-02BFF3C8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C52-D95B-45FD-9A3E-4C8FB933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279-FC62-42E1-A373-41CBEF69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A8A-6D26-46BB-A66C-C31725A1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2A3-1B7C-4E5D-AC2C-8F728F95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B15-70CD-40DC-B67E-4E10834C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E86-57D2-4DA0-B8AA-966895DD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2C7-8022-4177-9CA7-B2B3BCBC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E15-F878-44FD-9A11-5E5D018E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5AF-DACE-40F3-A1C6-8EE35496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F55-46AE-4B9F-9FD8-9E76094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DBF-2486-4A68-B59D-67FB816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D0A5-BC61-4084-925E-DBD131B988E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efenPowerpoint 3: MUZ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Maak een Powerpoint van </a:t>
            </a: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maximaal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4 DIA’S over muziek die jij leuk vindt, een favoriete artiest of een muziekinstrument. En verd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1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jouw naam + titel opgemaakt in WordArt, gebruik de dia-indeling  “Titeldia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2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met dia-indeling “Vergelijking” een zelf verzonnen opsomming met opsommingstekens. Verander de opsommingstekens in “smileys” of iets anders leuks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Alle tekst in 2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zetten op CENTREREN. En geef de tekst andere kleurtjes en lettertyp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oe in de 3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een plaatje invoegen van www.huiswerktypen.nl middels link “Downloaden afbeeldingen”. </a:t>
            </a:r>
            <a:r>
              <a:rPr b="0" i="1" lang="nl-NL" sz="1500" spc="-1" strike="noStrike">
                <a:solidFill>
                  <a:srgbClr val="000000"/>
                </a:solidFill>
                <a:latin typeface="Calibri"/>
              </a:rPr>
              <a:t>Je mag GEEN eigen foto’s of plaatjes van internet gebruiken! </a:t>
            </a:r>
            <a:r>
              <a:rPr b="0" lang="nl-NL" sz="1500" spc="-1" strike="noStrike" u="sng">
                <a:solidFill>
                  <a:srgbClr val="000000"/>
                </a:solidFill>
                <a:uFillTx/>
                <a:latin typeface="Calibri"/>
              </a:rPr>
              <a:t>Vul dia verder op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Kop-/Voettekst invoegen en zet daarin: Datum &amp; Tijd + Dia-nummer + Voettekst. </a:t>
            </a: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(3 onderdelen aanzetten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4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een tabel  van 5 rijen en 3 kolommen, met een achtergrondkleur in de 1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rij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IA-ONTWERP &gt; Kies zelf een ontwerp. Geef deze achtergrond andere kleur via de optie “Kleuren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ANIMATIES &gt; Geef alle dia’s een andere animatie (dus: tekstjes of plaatjes laten bewegen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IA-OVERGANG &gt; Zet tussen alle dia’s de optie overgangen aan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de optie “NA” op 3 seconden en vergeet niet  de knop OP ALLES TOEPASSEN te drukk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Je mag de Powerpoint verder helemaal leuk maken zoals JIJ wilt. HOU MAX. 4 DIA’S. !WEES CREATIEF!</a:t>
            </a:r>
            <a:br>
              <a:rPr sz="1500"/>
            </a:b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ebruik geen andere plaatjes dan die van “Downloaden afbeeldingen” van de website zelf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17:34Z</dcterms:created>
  <dc:creator>John</dc:creator>
  <dc:description/>
  <dc:language>en-US</dc:language>
  <cp:lastModifiedBy>John</cp:lastModifiedBy>
  <dcterms:modified xsi:type="dcterms:W3CDTF">2015-03-03T18:10:31Z</dcterms:modified>
  <cp:revision>56</cp:revision>
  <dc:subject/>
  <dc:title>PowerPoint-presentatie</dc:title>
</cp:coreProperties>
</file>