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C74-CAF2-400F-9990-6D638C93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39D-2DE6-4F10-9F11-2A894F97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D4ED-0230-4965-8949-2B983AA8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E2C-4703-4532-B36C-B5DCA9F7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95E-D674-44A0-9818-D00CFE93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999-9513-40BD-A5EB-081C3CE5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E95-FFD9-406D-A9B9-DED69380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488-75C8-499F-A423-4FD110DE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BB5-B7BA-45A4-A298-3F3F3F8A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20D-8192-4011-8304-9AB0B920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416F-2C36-45A9-A0BE-965E02ED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626-10FF-4E7F-9A6B-D028AE34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31C7-EEDB-4C7D-8A7F-C917A2A8BCD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efenPowerpoint 4: VAKAN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Maak een Powerpoint van </a:t>
            </a:r>
            <a:r>
              <a:rPr b="1" lang="nl-NL" sz="1500" spc="-1" strike="noStrike">
                <a:solidFill>
                  <a:srgbClr val="000000"/>
                </a:solidFill>
                <a:latin typeface="Calibri"/>
              </a:rPr>
              <a:t>maximaal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4 DIA’S over een leuke vakantie die je al eens een keer hebt meegemaakt of een vakantie die je nog gaat maken dit jaar. En verd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Zet in de 1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jouw naam + titel opgemaakt in WordArt, gebruik de dia-indeling  “Titeldia”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Zet in de 2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met dia-indeling “Vergelijking” een zelf verzonnen opsomming met opsommingstekens. Verander de opsommingstekens in “smileys” of iets anders leuks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Alle tekst in 2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zetten op CENTREREN. En geef de tekst andere kleurtjes en lettertyp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oe in de 3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een plaatje invoegen van www.huiswerktypen.nl middels link “Downloaden afbeeldingen”. </a:t>
            </a:r>
            <a:r>
              <a:rPr b="0" i="1" lang="nl-NL" sz="1500" spc="-1" strike="noStrike">
                <a:solidFill>
                  <a:srgbClr val="000000"/>
                </a:solidFill>
                <a:latin typeface="Calibri"/>
              </a:rPr>
              <a:t>Je mag GEEN eigen foto’s of plaatjes van internet gebruiken! </a:t>
            </a:r>
            <a:r>
              <a:rPr b="0" lang="nl-NL" sz="1500" spc="-1" strike="noStrike" u="sng">
                <a:solidFill>
                  <a:srgbClr val="000000"/>
                </a:solidFill>
                <a:uFillTx/>
                <a:latin typeface="Calibri"/>
              </a:rPr>
              <a:t>Vul dia verder op!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Kop-/Voettekst invoegen en zet daarin: Datum &amp; Tijd + Dia-nummer + Voettekst. </a:t>
            </a: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(3 onderdelen aanzetten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Zet in de 4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een tabel  van 5 rijen en 3 kolommen, met een achtergrondkleur in de 1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rij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IA-ONTWERP &gt; Kies zelf een ontwerp. Geef deze achtergrond andere kleur via de optie “Kleuren”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ANIMATIES &gt; Geef alle dia’s een andere animatie (dus: tekstjes of plaatjes laten bewegen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IA-OVERGANG &gt; Zet tussen alle dia’s de optie overgangen aan.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Zet de optie “NA” op 3 seconden en vergeet niet  de knop OP ALLES TOEPASSEN te drukke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Calibri"/>
              </a:rPr>
              <a:t>Je mag de Powerpoint verder helemaal leuk maken zoals JIJ wilt. HOU MAX. 4 DIA’S. !WEES CREATIEF!</a:t>
            </a:r>
            <a:br>
              <a:rPr sz="1500"/>
            </a:br>
            <a:r>
              <a:rPr b="1" lang="nl-NL" sz="15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Gebruik geen andere plaatjes dan die van “Downloaden afbeeldingen” van de website zelf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0:17:34Z</dcterms:created>
  <dc:creator>John</dc:creator>
  <dc:description/>
  <dc:language>en-US</dc:language>
  <cp:lastModifiedBy>John</cp:lastModifiedBy>
  <dcterms:modified xsi:type="dcterms:W3CDTF">2015-03-03T18:10:44Z</dcterms:modified>
  <cp:revision>54</cp:revision>
  <dc:subject/>
  <dc:title>PowerPoint-presentatie</dc:title>
</cp:coreProperties>
</file>